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49D8-0056-447C-B6BE-B871C19A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BB38-D7BE-4C7D-9FB6-FCC13F00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1028-E043-42F5-8B98-A88F0FE2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01B0-C314-4C18-A361-F25B7A3B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E0B-2412-463E-88EF-286E3DF6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1610-9F42-4D11-92C9-21A17A6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5F75-55D4-4B5F-8143-A647C51E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43BE-40FD-43D4-B691-580174BC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D87E-6952-4523-9D87-AF07DDB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2BBF-8E48-40E1-B783-DB387CA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D3A6-DFD4-45B1-998E-2E079F2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4D26-5A56-4AFC-B849-6D1D867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FD06-93D5-4F75-9975-F92042DE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6922-4080-4B0A-A44E-8BAD8DB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B17-2E77-44BF-A989-C5F4585A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3B58-F80D-4C57-A14D-F0B9726E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0B0B-2701-470D-9E35-7A10E240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E884-931D-4B99-8F81-BEB7EB6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AD97-84A3-4E3B-97EA-5B094648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3DD2-A956-442A-A4C9-504060FC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7B776-CB75-49D6-AF18-7866E736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BAB5-845C-44DF-B839-5CB24F4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E5B8-1CC8-4C53-8D07-EAEE29C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6D43-5BF9-42AF-A9BD-47DDF6F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EAE7-F1C3-4BF3-80D9-5DE7B98E8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BC9-75E8-497E-B1C5-803056DDB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aboratorioraly.com/" TargetMode="External"/><Relationship Id="rId3" Type="http://schemas.openxmlformats.org/officeDocument/2006/relationships/hyperlink" Target="http://laboratorioraly.com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sobl.org/traducciones/practical-postgres/node12.html" TargetMode="External"/><Relationship Id="rId4" Type="http://schemas.openxmlformats.org/officeDocument/2006/relationships/hyperlink" Target="http://www.sobl.org/traducciones/practical-postgres/node12.html" TargetMode="External"/><Relationship Id="rId5" Type="http://schemas.openxmlformats.org/officeDocument/2006/relationships/hyperlink" Target="http://www.sobl.org/traducciones/practical-postgres/node12.html" TargetMode="External"/><Relationship Id="rId6" Type="http://schemas.openxmlformats.org/officeDocument/2006/relationships/hyperlink" Target="http://www.sobl.org/traducciones/practical-postgres/node12.html" TargetMode="External"/><Relationship Id="rId7" Type="http://schemas.openxmlformats.org/officeDocument/2006/relationships/hyperlink" Target="http://www.sobl.org/traducciones/practical-postgres/node12.html" TargetMode="External"/><Relationship Id="rId8" Type="http://schemas.openxmlformats.org/officeDocument/2006/relationships/hyperlink" Target="http://www.sobl.org/traducciones/practical-postgres/node12.html" TargetMode="External"/><Relationship Id="rId9" Type="http://schemas.openxmlformats.org/officeDocument/2006/relationships/hyperlink" Target="http://www.sobl.org/traducciones/practical-postgres/node12.html" TargetMode="External"/><Relationship Id="rId10" Type="http://schemas.openxmlformats.org/officeDocument/2006/relationships/hyperlink" Target="http://www.sobl.org/traducciones/practical-postgres/node12.html" TargetMode="External"/><Relationship Id="rId11" Type="http://schemas.openxmlformats.org/officeDocument/2006/relationships/hyperlink" Target="http://soporte1.tiendalinux.com/Portfolio/postgresql_ventajas_html" TargetMode="External"/><Relationship Id="rId12" Type="http://schemas.openxmlformats.org/officeDocument/2006/relationships/hyperlink" Target="http://soporte1.tiendalinux.com/Portfolio/postgresql_ventajas_html" TargetMode="External"/><Relationship Id="rId13" Type="http://schemas.openxmlformats.org/officeDocument/2006/relationships/hyperlink" Target="http://soporte1.tiendalinux.com/Portfolio/postgresql_ventajas_html" TargetMode="External"/><Relationship Id="rId14" Type="http://schemas.openxmlformats.org/officeDocument/2006/relationships/hyperlink" Target="http://soporte1.tiendalinux.com/Portfolio/postgresql_ventajas_html" TargetMode="External"/><Relationship Id="rId15" Type="http://schemas.openxmlformats.org/officeDocument/2006/relationships/hyperlink" Target="http://soporte1.tiendalinux.com/Portfolio/postgresql_ventajas_html" TargetMode="External"/><Relationship Id="rId16" Type="http://schemas.openxmlformats.org/officeDocument/2006/relationships/hyperlink" Target="http://soporte1.tiendalinux.com/Portfolio/postgresql_ventajas_html" TargetMode="External"/><Relationship Id="rId17" Type="http://schemas.openxmlformats.org/officeDocument/2006/relationships/hyperlink" Target="http://www.postgresql.org/" TargetMode="External"/><Relationship Id="rId18" Type="http://schemas.openxmlformats.org/officeDocument/2006/relationships/hyperlink" Target="http://www.postgresql.org/" TargetMode="External"/><Relationship Id="rId19" Type="http://schemas.openxmlformats.org/officeDocument/2006/relationships/hyperlink" Target="http://www.postgresql.org/" TargetMode="External"/><Relationship Id="rId20" Type="http://schemas.openxmlformats.org/officeDocument/2006/relationships/hyperlink" Target="http://es.tldp.org/Postgresqls/web/navegable/user/x56.html" TargetMode="External"/><Relationship Id="rId21" Type="http://schemas.openxmlformats.org/officeDocument/2006/relationships/hyperlink" Target="http://es.tldp.org/Postgresqls/web/navegable/user/x56.html" TargetMode="External"/><Relationship Id="rId22" Type="http://schemas.openxmlformats.org/officeDocument/2006/relationships/hyperlink" Target="http://es.tldp.org/Postgresqls/web/navegable/user/x56.html" TargetMode="External"/><Relationship Id="rId23" Type="http://schemas.openxmlformats.org/officeDocument/2006/relationships/hyperlink" Target="http://es.tldp.org/Postgresqls/web/navegable/user/x56.html" TargetMode="External"/><Relationship Id="rId24" Type="http://schemas.openxmlformats.org/officeDocument/2006/relationships/hyperlink" Target="http://es.tldp.org/Postgresqls/web/navegable/user/x56.html" TargetMode="External"/><Relationship Id="rId25" Type="http://schemas.openxmlformats.org/officeDocument/2006/relationships/hyperlink" Target="http://es.tldp.org/Postgresqls/web/navegable/user/x56.html" TargetMode="External"/><Relationship Id="rId26" Type="http://schemas.openxmlformats.org/officeDocument/2006/relationships/hyperlink" Target="http://es.tldp.org/Postgresqls/web/navegable/user/x56.html" TargetMode="External"/><Relationship Id="rId27" Type="http://schemas.openxmlformats.org/officeDocument/2006/relationships/hyperlink" Target="http://es.tldp.org/Postgresqls/web/navegable/user/x56.html" TargetMode="External"/><Relationship Id="rId28" Type="http://schemas.openxmlformats.org/officeDocument/2006/relationships/hyperlink" Target="http://es.tldp.org/Postgresqls/web/navegable/user/x56.html" TargetMode="External"/><Relationship Id="rId29" Type="http://schemas.openxmlformats.org/officeDocument/2006/relationships/hyperlink" Target="http://es.tldp.org/Postgresqls/web/navegable/user/x56.html" TargetMode="External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59280" y="439740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ANA BEANNEY LOZADA TRE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FRANCISCO LEÓN ACOS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JULIO BUSTOS BUSTAM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67080" y="1268280"/>
          <a:ext cx="32767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68280"/>
                    <a:ext cx="3276720" cy="2895840"/>
                  </a:xfrm>
                  <a:prstGeom prst="rect">
                    <a:avLst/>
                  </a:prstGeom>
                  <a:ln w="9360">
                    <a:solidFill>
                      <a:srgbClr val="ccec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92160" y="693720"/>
            <a:ext cx="4840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En 1987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Postgres introdujo reglas, procedimientos, tipos definibles y conceptos de orientación a objetos.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Postgres fue comercializado con el nombre de </a:t>
            </a:r>
            <a:r>
              <a:rPr b="1" i="1" lang="es-E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Illustr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y forma parte actualmente del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al Server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 Informix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474840"/>
            <a:ext cx="1800000" cy="115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9440" y="549360"/>
            <a:ext cx="440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Una nu</a:t>
            </a: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eva versión fue lanzada en 1995 como Postgres95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y en ese momento el desarrollo pasó a manos de la comunidad de Internet. </a:t>
            </a:r>
            <a:r>
              <a:rPr b="1" lang="es-ES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Postgres95 evolucionó hasta lo que es ahora PostgreSQ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En 1996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e hizo evidente que el nombre Postgres95 no resistiria el paso del tiempo. </a:t>
            </a:r>
            <a:r>
              <a:rPr b="1" lang="es-MX" sz="2800" spc="-1" strike="noStrike">
                <a:solidFill>
                  <a:srgbClr val="ff3399"/>
                </a:solidFill>
                <a:latin typeface="Arial"/>
                <a:ea typeface="Times New Roman"/>
              </a:rPr>
              <a:t>Eligierón un nuevo nombre, PostgreSQL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para reflejar la relación entre el Postgres original y las versiones más recientes del SQ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91280" y="476280"/>
            <a:ext cx="1728720" cy="110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437080" y="1555920"/>
            <a:ext cx="2735280" cy="1944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71640" y="3789360"/>
            <a:ext cx="7129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¿ QUÉ ES POSTGRES 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9640" y="264492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un manejador de base de datos relacionales orientado a objeto e incorpora casi todas las funcionalidades de SQL, incluyendo tipos de datos definidos por el usuario, sub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ciones y gran variedad de transaccion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586560" y="476280"/>
            <a:ext cx="2233440" cy="1431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35280" y="8938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E ES POSTGR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735280" cy="1944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933720"/>
            <a:ext cx="7704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CARACTERISTICA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547640" y="476280"/>
            <a:ext cx="7207560" cy="5544720"/>
            <a:chOff x="1547640" y="476280"/>
            <a:chExt cx="7207560" cy="5544720"/>
          </a:xfrm>
        </p:grpSpPr>
        <p:graphicFrame>
          <p:nvGraphicFramePr>
            <p:cNvPr id="153" name=""/>
            <p:cNvGraphicFramePr/>
            <p:nvPr/>
          </p:nvGraphicFramePr>
          <p:xfrm>
            <a:off x="1547640" y="476280"/>
            <a:ext cx="7207560" cy="334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47640" y="476280"/>
                      <a:ext cx="7207560" cy="334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1547640" y="3814560"/>
            <a:ext cx="7194600" cy="2206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47640" y="3814560"/>
                      <a:ext cx="7194600" cy="22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92360" y="4098600"/>
            <a:ext cx="58672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72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273528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2048040"/>
            <a:ext cx="800100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Postgres o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frece muchas ventajas para su compañía o negocio respecto a otros sistemas de bases de dato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Instalación ilimitada: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No hay costo asociado a la licencia del softwar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ff0000"/>
                </a:solidFill>
                <a:latin typeface="Arial"/>
              </a:rPr>
              <a:t>Mejor soporte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que los proveedores comercial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75640" y="45252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63640" y="477720"/>
            <a:ext cx="4840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2228760"/>
            <a:ext cx="822960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20720" indent="-2635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900" spc="-1" strike="noStrike">
                <a:solidFill>
                  <a:srgbClr val="ff0000"/>
                </a:solidFill>
                <a:latin typeface="Arial"/>
              </a:rPr>
              <a:t>Ahorros considerables</a:t>
            </a:r>
            <a:r>
              <a:rPr b="0" i="1" lang="es-ES" sz="2900" spc="-1" strike="noStrike">
                <a:solidFill>
                  <a:srgbClr val="ffffff"/>
                </a:solidFill>
                <a:latin typeface="Arial"/>
              </a:rPr>
              <a:t> en costos de    operación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900" spc="-1" strike="noStrike">
                <a:solidFill>
                  <a:srgbClr val="ff0000"/>
                </a:solidFill>
                <a:latin typeface="Arial"/>
              </a:rPr>
              <a:t>Estabilidad y confiabilidad</a:t>
            </a:r>
            <a:r>
              <a:rPr b="0" i="1" lang="es-ES" sz="2900" spc="-1" strike="noStrike">
                <a:solidFill>
                  <a:srgbClr val="ffffff"/>
                </a:solidFill>
                <a:latin typeface="Arial"/>
              </a:rPr>
              <a:t> legendarias</a:t>
            </a: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900" spc="-1" strike="noStrike">
                <a:solidFill>
                  <a:srgbClr val="ff0000"/>
                </a:solidFill>
                <a:latin typeface="Arial"/>
              </a:rPr>
              <a:t>Extensible .</a:t>
            </a:r>
            <a:r>
              <a:rPr b="0" i="1" lang="es-ES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900" spc="-1" strike="noStrike">
                <a:solidFill>
                  <a:srgbClr val="ff0000"/>
                </a:solidFill>
                <a:latin typeface="Arial"/>
              </a:rPr>
              <a:t>Multiplataforma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6352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900" spc="-1" strike="noStrike">
                <a:solidFill>
                  <a:srgbClr val="ff0000"/>
                </a:solidFill>
                <a:latin typeface="Arial"/>
              </a:rPr>
              <a:t>Diseñado</a:t>
            </a:r>
            <a:r>
              <a:rPr b="0" i="1" lang="es-ES" sz="2900" spc="-1" strike="noStrike">
                <a:solidFill>
                  <a:srgbClr val="ffffff"/>
                </a:solidFill>
                <a:latin typeface="Arial"/>
              </a:rPr>
              <a:t> para ambientes de alto volumen</a:t>
            </a:r>
            <a:r>
              <a:rPr b="0" lang="es-E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63640" y="765000"/>
            <a:ext cx="4840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75640" y="45252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0800" y="3187800"/>
            <a:ext cx="841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Herramienta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gráficas de diseño y administración de bases de datos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9440" y="549360"/>
            <a:ext cx="484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2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95280" y="304920"/>
            <a:ext cx="4840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5000" spc="-1" strike="noStrike">
                <a:solidFill>
                  <a:srgbClr val="ffffff"/>
                </a:solidFill>
                <a:latin typeface="Arial"/>
              </a:rPr>
              <a:t>INDI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1557360"/>
            <a:ext cx="5399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T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HIS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¿ QUÉ ES POSTGRE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VENTA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VENTAJAS ADI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VENTA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JEMPLO DEL USO DE POSTG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12000" y="549360"/>
            <a:ext cx="190800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90360" y="3664080"/>
            <a:ext cx="69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7200" spc="-1" strike="noStrike">
                <a:solidFill>
                  <a:srgbClr val="ffffff"/>
                </a:solidFill>
                <a:latin typeface="Arial"/>
              </a:rPr>
              <a:t>VENTAJAS ADICIONAL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230508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02560" y="479520"/>
            <a:ext cx="2017440" cy="1293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1981080"/>
            <a:ext cx="8381880" cy="40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odelos de negocios más rentables con instalaciones a gran escal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o existe la posibilidad de ser auditado para verificar cumplimiento de licencia en ningún momento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Flexibilidad para hacer investigación y desarrollo sin necesidad de incurrir en costos adicionales de licenci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36720" y="5824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NTAJAS ADI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760" y="3879720"/>
            <a:ext cx="69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7200" spc="-1" strike="noStrike">
                <a:solidFill>
                  <a:srgbClr val="ffffff"/>
                </a:solidFill>
                <a:latin typeface="Arial"/>
              </a:rPr>
              <a:t>DESVENTAJ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73528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2923920"/>
            <a:ext cx="8280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stgreSQL carece de un lenguaje de cuarta generación (4GL) que facilite la programación de aplicaciones de bases de d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00000" cy="115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93800" y="620640"/>
            <a:ext cx="518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Arial"/>
              </a:rPr>
              <a:t>DESVENTAJA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83760" y="4005360"/>
            <a:ext cx="6743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7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73528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14400" y="227664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fffff"/>
                </a:solidFill>
                <a:latin typeface="Arial"/>
              </a:rPr>
              <a:t>LABORATORIOS RALY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2"/>
          </p:cNvPr>
          <p:cNvSpPr/>
          <p:nvPr/>
        </p:nvSpPr>
        <p:spPr>
          <a:xfrm>
            <a:off x="4152960" y="2962440"/>
            <a:ext cx="36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LOGORALY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4591080"/>
            <a:ext cx="1270080" cy="135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75640" y="45252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2193840"/>
            <a:ext cx="785484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tiliza el servidor de base de datos PostgreSQL (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Plataforma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Linux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La base de datos comprende: S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stema de facturación, generación de reportes, cuentas por cobrar, un conjunto amplio de reportes tanto en la aplicación principal como en la interfase web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93800" y="693720"/>
            <a:ext cx="518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75640" y="45252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26920" y="2193840"/>
            <a:ext cx="778356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iene conectadas sus </a:t>
            </a: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7 sucursales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en el país.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Todas la sucursales están </a:t>
            </a: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en línea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con el servidor central en casa matriz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l servidor central se conectan alrededor de </a:t>
            </a: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26 de sus estaciones remotas de trabajo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693720"/>
            <a:ext cx="518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133720"/>
            <a:ext cx="8076960" cy="37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Adicionalmente, el sistema permite la consulta </a:t>
            </a:r>
            <a:r>
              <a:rPr b="1" lang="es-ES" sz="3000" spc="-1" strike="noStrike" u="sng">
                <a:solidFill>
                  <a:srgbClr val="ffffff"/>
                </a:solidFill>
                <a:uFillTx/>
                <a:latin typeface="Arial"/>
              </a:rPr>
              <a:t>segura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 al servidor, vía Internet, a los médicos y empresas asociadas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Todo e</a:t>
            </a: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sto ha permitido disfrutar de estabilidad y seguridad en el manejo de la información que genera el Laboratorio y en un significativo ahorro de cost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765000"/>
            <a:ext cx="518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860640"/>
            <a:ext cx="78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500" spc="-1" strike="noStrike">
                <a:solidFill>
                  <a:srgbClr val="ffffff"/>
                </a:solidFill>
                <a:latin typeface="Arial"/>
              </a:rPr>
              <a:t>CONCLUCIÓN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73528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3459240"/>
            <a:ext cx="673272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6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2735280" cy="19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990720" y="2706840"/>
            <a:ext cx="7619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000" spc="-1" strike="noStrike">
                <a:solidFill>
                  <a:srgbClr val="ffffff"/>
                </a:solidFill>
                <a:latin typeface="Arial"/>
              </a:rPr>
              <a:t>PostgreSQL puede contribuir efectivamente con la estabilidad, seguridad y ahorro de costos que requiere el manejo de la información de su pequeña, mediana o gran empre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49440" y="765000"/>
            <a:ext cx="5254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CONCLUCIÓ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3933720"/>
            <a:ext cx="7812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5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735280" cy="194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0880" y="1905120"/>
            <a:ext cx="84582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78f0"/>
                </a:solidFill>
                <a:latin typeface="Arial"/>
              </a:rPr>
              <a:t>   </a:t>
            </a:r>
            <a:r>
              <a:rPr b="1" lang="es-MX" sz="2400" spc="-1" strike="noStrike">
                <a:solidFill>
                  <a:srgbClr val="3399ff"/>
                </a:solidFill>
                <a:latin typeface="Arial"/>
              </a:rPr>
              <a:t>http://www.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clientespostgres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http://www.postgresql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3"/>
              </a:rPr>
              <a:t>http://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4"/>
              </a:rPr>
              <a:t>www.sobl.org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5"/>
              </a:rPr>
              <a:t>/traducciones/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6"/>
              </a:rPr>
              <a:t>practical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8"/>
              </a:rPr>
              <a:t>postgres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9"/>
              </a:rPr>
              <a:t>/node12.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0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1"/>
              </a:rPr>
              <a:t>http://soporte1.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2"/>
              </a:rPr>
              <a:t>tiendalinux.com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3"/>
              </a:rPr>
              <a:t>/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4"/>
              </a:rPr>
              <a:t>Portfolio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5"/>
              </a:rPr>
              <a:t>/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6"/>
              </a:rPr>
              <a:t>postgresql_ventajas_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7"/>
              </a:rPr>
              <a:t>http://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8"/>
              </a:rPr>
              <a:t>www.postgresql.org</a:t>
            </a:r>
            <a:r>
              <a:rPr b="0" lang="es-ES" sz="24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1"/>
              </a:rPr>
              <a:t>es.tldp.org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3"/>
              </a:rPr>
              <a:t>Postgresqls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5"/>
              </a:rPr>
              <a:t>web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6"/>
              </a:rPr>
              <a:t>/navegable/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7"/>
              </a:rPr>
              <a:t>user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8"/>
              </a:rPr>
              <a:t>/x56.</a:t>
            </a:r>
            <a:r>
              <a:rPr b="0" lang="es-ES" sz="2200" spc="-1" strike="noStrike" u="sng">
                <a:solidFill>
                  <a:srgbClr val="3399ff"/>
                </a:solidFill>
                <a:uFillTx/>
                <a:latin typeface="Arial"/>
                <a:ea typeface="Times New Roman"/>
                <a:hlinkClick r:id="rId29"/>
              </a:rPr>
              <a:t>ht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49440" y="549360"/>
            <a:ext cx="525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500"/>
                            </p:stCondLst>
                            <p:childTnLst>
                              <p:par>
                                <p:cTn id="5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6700"/>
                            </p:stCondLst>
                            <p:childTnLst>
                              <p:par>
                                <p:cTn id="5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4200"/>
                            </p:stCondLst>
                            <p:childTnLst>
                              <p:par>
                                <p:cTn id="55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7700"/>
                            </p:stCondLst>
                            <p:childTnLst>
                              <p:par>
                                <p:cTn id="56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2752560"/>
            <a:ext cx="861048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"En los últimos años, el software de bases de datos ha experimentado un auge extraordinario, a raíz de la progresiva informatización de casi la totalidad de las empresas de hoy día”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767640" y="476280"/>
            <a:ext cx="2052360" cy="1316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47800" y="909720"/>
            <a:ext cx="484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24382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l mundo de las Bases de Datos ha estado históricamente dominado por tres grandes compañías (Oracle, Informix e IBM) que ofrecen productos destinados a la gestión de grandes cantidades de informació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942920" cy="1246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838080"/>
            <a:ext cx="4840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3640" y="2592000"/>
            <a:ext cx="83516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irigidos a un mercado medio encontramos multitud de productos que pueden cubrir perfectamente las necesidades de cualquier empresa mediana sin hacer que el presupuesto se dispare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16000" cy="129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76520" y="838080"/>
            <a:ext cx="4840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243180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xiste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también varios Gestores de Bases de Datos gratuitos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desarrollados generalmente por Universidades o Grupos de voluntarios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lgunos de estos productos tienen una gran calidad y en muchos casos superan las cualidades de sus competidores comerciales. En 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stos productos gratuitos y de gran calidad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encontramos  a PostgreSQ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2016000" cy="1293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692360" y="836640"/>
            <a:ext cx="484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280" y="4171680"/>
            <a:ext cx="58676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7200" spc="-1" strike="noStrike">
                <a:solidFill>
                  <a:srgbClr val="ffffff"/>
                </a:solidFill>
                <a:latin typeface="Arial"/>
              </a:rPr>
              <a:t>HISTORIA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19080" y="693720"/>
            <a:ext cx="4840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200" spc="-1" strike="noStrike">
                <a:solidFill>
                  <a:srgbClr val="ffffff"/>
                </a:solidFill>
                <a:latin typeface="Arial"/>
              </a:rPr>
              <a:t>HISTORIA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2819160"/>
            <a:ext cx="78483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ienz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omo un proyecto de investigación del grupo del </a:t>
            </a:r>
            <a:r>
              <a:rPr b="1" lang="es-ES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Profesor Michael Stonebraker en Berkeley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El proyecto original se llamó </a:t>
            </a:r>
            <a:r>
              <a:rPr b="1" i="1" lang="es-MX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Ingres</a:t>
            </a:r>
            <a:r>
              <a:rPr b="1" lang="es-MX" sz="3200" spc="-1" strike="noStrike">
                <a:solidFill>
                  <a:srgbClr val="ff33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75640" y="476280"/>
            <a:ext cx="1944360" cy="12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1:34:14Z</dcterms:created>
  <dc:creator>Capami</dc:creator>
  <dc:description/>
  <dc:language>en-US</dc:language>
  <cp:lastModifiedBy>Francisco Leon</cp:lastModifiedBy>
  <dcterms:modified xsi:type="dcterms:W3CDTF">2005-11-16T20:26:51Z</dcterms:modified>
  <cp:revision>16</cp:revision>
  <dc:subject/>
  <dc:title>POSTGRES</dc:title>
</cp:coreProperties>
</file>