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B65-63F4-4285-8D76-8DDB7D9A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CEC-41B8-481C-A5AB-D9F61A2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C58-D4CB-4574-B8A9-7081F06A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F33-7239-4DD7-8F47-81A86E7F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C47-A4D4-4FBA-9193-ED55CC6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EB9-94E6-4986-9B9B-7681B28C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4B5-9D6E-4106-9010-362DD12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038-43F6-48F1-A8B4-AE67A7A3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BAF-730C-4285-B590-79E144E4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D1F-492B-4F92-BBE2-FCD1E82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0D3-8351-41CD-94F2-80D41F9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8AA-E1CE-42CD-9C4D-9E1AB96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076-3CC7-4D28-9427-C6B8F4CF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1699920"/>
            <a:ext cx="4249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jemplo de cómo uti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lemaker en un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 Bicicl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2105280" cy="26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733320" cy="800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12952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676440" cy="50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140360" y="5157720"/>
            <a:ext cx="685800" cy="6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435640" y="4724280"/>
            <a:ext cx="676080" cy="67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804000" y="5445000"/>
            <a:ext cx="7524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alizar facturas  a los clientes con solo ingresar alguna información de est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9208" t="3389" r="0" b="4637"/>
          <a:stretch/>
        </p:blipFill>
        <p:spPr>
          <a:xfrm>
            <a:off x="1692360" y="1197000"/>
            <a:ext cx="53942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n este negocio FileMaker ha permit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ner eventos benéficos para el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ner más clientes en dicho caso de bicicl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ama de catá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ágina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41221" t="23291" r="1814" b="8417"/>
          <a:stretch/>
        </p:blipFill>
        <p:spPr>
          <a:xfrm>
            <a:off x="5148360" y="1844640"/>
            <a:ext cx="3527280" cy="31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18815" t="4637" r="855" b="8417"/>
          <a:stretch/>
        </p:blipFill>
        <p:spPr>
          <a:xfrm>
            <a:off x="755640" y="2852640"/>
            <a:ext cx="3889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6360" y="836640"/>
            <a:ext cx="2737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sta de 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arreg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8815" t="4637" r="0" b="5891"/>
          <a:stretch/>
        </p:blipFill>
        <p:spPr>
          <a:xfrm>
            <a:off x="324000" y="1341360"/>
            <a:ext cx="4105080" cy="339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18815" t="2111" r="0" b="4637"/>
          <a:stretch/>
        </p:blipFill>
        <p:spPr>
          <a:xfrm>
            <a:off x="4572000" y="2637000"/>
            <a:ext cx="4176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 permite además mandar E-Mails a una lista de direcciones de tu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9769" t="5891" r="0" b="5891"/>
          <a:stretch/>
        </p:blipFill>
        <p:spPr>
          <a:xfrm>
            <a:off x="611280" y="1557360"/>
            <a:ext cx="4032000" cy="332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9769" t="4637" r="0" b="4637"/>
          <a:stretch/>
        </p:blipFill>
        <p:spPr>
          <a:xfrm>
            <a:off x="4716360" y="2492280"/>
            <a:ext cx="4176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148360" y="2637000"/>
            <a:ext cx="2984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FileMaker tu negocio será más fácil de manej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9208" t="17249" r="22604" b="8417"/>
          <a:stretch/>
        </p:blipFill>
        <p:spPr>
          <a:xfrm>
            <a:off x="971640" y="1484280"/>
            <a:ext cx="36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ejo de contactos y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700280"/>
            <a:ext cx="2376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 permite tener soluciones rápidas como encontrar al instante a un cont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5832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30480"/>
            <a:ext cx="194292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opción de “Task” y en el menú “Insertar” te permite ingresar a todos los contactos como clientes, proveedores, etc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981" t="7169" r="2749" b="5891"/>
          <a:stretch/>
        </p:blipFill>
        <p:spPr>
          <a:xfrm>
            <a:off x="2700360" y="1154160"/>
            <a:ext cx="5977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7280" y="1557000"/>
            <a:ext cx="230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ste negocio, se requiere organizar todo los accesorios que son v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6916" t="3389" r="1814" b="4637"/>
          <a:stretch/>
        </p:blipFill>
        <p:spPr>
          <a:xfrm>
            <a:off x="1042920" y="1484280"/>
            <a:ext cx="5040360" cy="4278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5000"/>
            <a:ext cx="748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Organizando Productos e Inventar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File maker puede realizarse Inventarios, para saber en este ca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Número de registro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uántos hay en ex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aracterísticas(Peso, tamaño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16" t="10943" r="0" b="4637"/>
          <a:stretch/>
        </p:blipFill>
        <p:spPr>
          <a:xfrm>
            <a:off x="2700360" y="2133720"/>
            <a:ext cx="575460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59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pueden insertar gráf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16" t="5891" r="1814" b="8417"/>
          <a:stretch/>
        </p:blipFill>
        <p:spPr>
          <a:xfrm>
            <a:off x="1619280" y="1052640"/>
            <a:ext cx="619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alizar reporte de Invent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6916" t="4637" r="1814" b="4637"/>
          <a:stretch/>
        </p:blipFill>
        <p:spPr>
          <a:xfrm>
            <a:off x="1403280" y="1413000"/>
            <a:ext cx="583416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4292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dar a tus contactos tu nueva lista de productos por vía 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6916" t="3389" r="1814" b="3389"/>
          <a:stretch/>
        </p:blipFill>
        <p:spPr>
          <a:xfrm>
            <a:off x="1763640" y="1484280"/>
            <a:ext cx="5761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55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 permite realizar Procesos de Ordenes de Venta y Transa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6916" t="4637" r="2749" b="3389"/>
          <a:stretch/>
        </p:blipFill>
        <p:spPr>
          <a:xfrm>
            <a:off x="1547640" y="1341360"/>
            <a:ext cx="6121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9:31:38Z</dcterms:created>
  <dc:creator>Unknwon User</dc:creator>
  <dc:description/>
  <dc:language>en-US</dc:language>
  <cp:lastModifiedBy>Unknwon User</cp:lastModifiedBy>
  <dcterms:modified xsi:type="dcterms:W3CDTF">2005-11-10T02:19:51Z</dcterms:modified>
  <cp:revision>6</cp:revision>
  <dc:subject/>
  <dc:title>Diapositiva 1</dc:title>
</cp:coreProperties>
</file>